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C0A-A4C5-478E-9FCC-DF7FE08D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27D-4601-4C6D-A788-6CECC467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C3A-291B-43CA-AE87-FCB8DC32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C64-C159-4D2C-87C0-268DE0B0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3E77-B69C-43AA-A88A-F8BC96D6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2182-037F-45DF-984D-0C23B96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9FC9-28CB-4C5B-BFEA-617E6480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CEE9-C174-4F6F-8ADC-CC5D54CB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DC84-5EF5-4FB6-9836-E095E1FA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48C3-C899-4E8F-BD48-F9C46542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C66-4614-49C4-971D-78CE165A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CD3-BB0B-4B08-A8B0-13DC22CF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2702-FE2C-4EAD-9F22-97BEFA9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17D5-ED5B-4046-898F-17EE632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31F3-B6DB-4773-BE57-FDAF416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7FB-6B93-4252-BD0C-BB9FCCCB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64AF-E8C8-456E-B8FC-1605400B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2B3F-FC11-44D2-8550-CD0D9AA6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E43E-2C19-4BC0-B88F-273CDA4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F9F4-7FB7-463F-BC63-157739D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9ACC-8B3A-4906-8D69-CBD27087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4308-0A41-487F-83EA-2B01DC3A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7B8-A33B-402F-85A9-265D213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BC0A-0165-4701-B716-D0BFF1B0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3DF9-159E-4058-8ECB-29CC066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E968C-2D08-44C1-B348-2323676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2491-CD5B-4FD1-BD97-44189E5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AE01-C3D8-4D7B-A1CD-DE6DB3EF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8D47-7DE2-4A3C-ACA3-8B917A9B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3983-0521-4A7C-815F-DE32A7E0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13CD-A908-4BF0-B9E4-C7A81957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50B1-2DFC-433D-ABE6-24EF276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7C62-72AE-408B-AC0D-62A1FC02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C20-6111-487D-8639-CFBEB1FF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0733E-1364-429B-B7AE-DE8E6A1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A20B-D776-43A5-957F-0E17F3E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6F5B-E9D2-4DF8-873D-FD561F99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2DAC-7D1E-47BE-B136-DE9DB78A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2E75-9EB1-4A69-B362-7FCBA90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9195-916C-4138-ACBC-BC698C1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78293-36E5-4784-AD71-8AB04440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7FD9-EE41-46A1-8EEC-CA90B7B2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6A9A-ED04-468E-AFE8-6E71414A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A702-0BDA-413C-AC6D-DDE3AD97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3E6-CFBB-4495-A2DD-EBF3FBD0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09B9-AA03-424C-813E-CF38091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5FE9-7263-4210-B272-93F7A9B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3D39-5E70-4853-A6FD-F7C0E44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EEBA8-A1E6-474D-9835-8013B02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A60C-E37F-43E8-8A95-EF49A1D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7F32-FBA6-48BA-A138-EEDB7C3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E361-2D91-4AFA-A884-F412517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4B06-ADB0-4D45-A26E-46AF292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938DB-9204-4F56-9F95-EDEE53CE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F823-CCE8-48E3-A97D-91323F7E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000-8288-48B1-A2E0-EDFCDF14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7402-7BA6-4B9B-AC2E-113B01FC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FD1-1B94-421A-8240-DFFD6DC9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396-B505-427F-A4B6-0D40EA3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5EE-9853-4573-9935-45113F59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263-0F6A-4997-ABDD-579186EFDD7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D8FB-F135-4C55-9050-8BA513D975E1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4650-84D3-42FD-831B-6205A5F6966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2E9-A581-452E-AA63-C474AC4188BC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C68-1E64-41F3-8DF0-3FC3756A613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425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МЕТОДИЧЕСКОЙ РАЗРАБОТК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 для педагогов ДОУ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Жить играючи - легко!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педагог-психолог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нник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115920" y="176040"/>
            <a:ext cx="8021520" cy="1189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071960" y="135720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на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изируют: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происходит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Например, если мы сильно проголодались, то почувствуем раздражение, а следом и импульс к действию. А удовлетворив эту потребность,  наверняка будем переживать радость и удовольствие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дают нам импульс к действию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В примере с голодом приспособлением  будет поиск еды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ции помогают на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х себя услышать и отрегулировать. 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м усталость – отдыхаем, чрезмерное напряжение – расслабляемся. Эмоции говорят нам, когда пора остановиться, передохнуть, позаботиться о себе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носят коммуникативный характер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могают человеку выразить себя в общении, понять другого, почувствовать связь или, наоборот, установить безопасную дистанцию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помогают на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безопасность ситуации и окружения.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Если мы способны чувствовать страх, то мы позаботимся о своей безопасности, и «не зная броду, не полезем в воду». Если же потерян контакт с эмоциями, то и страх не в доступе. 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Дмитрий\Desktop\82295.jpg"/>
          <p:cNvPicPr/>
          <p:nvPr/>
        </p:nvPicPr>
        <p:blipFill>
          <a:blip r:embed="rId2"/>
          <a:stretch/>
        </p:blipFill>
        <p:spPr>
          <a:xfrm>
            <a:off x="0" y="2998800"/>
            <a:ext cx="4422600" cy="3859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14200" y="1428840"/>
            <a:ext cx="4143600" cy="171432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 почувствовать настоящую радость без ощущения радости, осознать потерю близкого человека без боли утраты. Через свои эмоции мы проживаем жизнь и если с ними что-то не так, мы теряем способность быть в этом мире по-настоящему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Дмитрий\Desktop\image0_59a7bf58ebf44206002fd382_jpg.jpeg"/>
          <p:cNvPicPr/>
          <p:nvPr/>
        </p:nvPicPr>
        <p:blipFill>
          <a:blip r:embed="rId1"/>
          <a:stretch/>
        </p:blipFill>
        <p:spPr>
          <a:xfrm>
            <a:off x="1225440" y="85680"/>
            <a:ext cx="502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272360" cy="1659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285480" y="1928520"/>
            <a:ext cx="3692520" cy="4714920"/>
          </a:xfrm>
          <a:prstGeom prst="rect">
            <a:avLst/>
          </a:prstGeom>
          <a:solidFill>
            <a:srgbClr val="cf96b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е приемы регуляции организма являются одними из наиболее доступных способов саморегуляции: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ый сон, еда, общение с природой и животными, массаж, движение, танцы, музыка и многое другое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х, улыбка, юмор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я о хорошем, приятном;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77800" y="1857240"/>
            <a:ext cx="3751560" cy="4786560"/>
          </a:xfrm>
          <a:prstGeom prst="rect">
            <a:avLst/>
          </a:prstGeom>
          <a:solidFill>
            <a:srgbClr val="d788a3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движения типа потягивания, расслабления мышц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пейзажем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цветов в помещении, фотографий, других приятных или дорогих для человека веще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 (реальное или мысленное) в солнечных лучах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ыхание свежего воздух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похвалы, комплиментов и п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182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14200" y="1599840"/>
            <a:ext cx="3929040" cy="4971960"/>
          </a:xfrm>
          <a:prstGeom prst="rect">
            <a:avLst/>
          </a:prstGeom>
          <a:solidFill>
            <a:srgbClr val="dec2e4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ыханием — это эффективное средство влияния на тонус мышц и эмоциональные центры мозга. Медленное и глубокое дыхание (с участием мышц живота) понижает возбудимость нервных центров, способствует мышечному расслаблению, то есть релаксации. Частое (грудное) дыхание, наоборот, обеспечивает высокий уровень активности организма, поддерживает нервно-психическую напряжен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43720" y="3214440"/>
            <a:ext cx="2055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C:\Users\Дмитрий\Desktop\holo.jpg"/>
          <p:cNvPicPr/>
          <p:nvPr/>
        </p:nvPicPr>
        <p:blipFill>
          <a:blip r:embed="rId2"/>
          <a:stretch/>
        </p:blipFill>
        <p:spPr>
          <a:xfrm>
            <a:off x="4500720" y="1677960"/>
            <a:ext cx="3340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7255080" cy="1395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6840" y="1599840"/>
            <a:ext cx="3521160" cy="1685880"/>
          </a:xfrm>
          <a:prstGeom prst="rect">
            <a:avLst/>
          </a:prstGeom>
          <a:solidFill>
            <a:srgbClr val="cf96b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здействием психических нагрузок возникают мышечные зажимы, напряжени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7400" y="1600200"/>
            <a:ext cx="4071960" cy="5043600"/>
          </a:xfrm>
          <a:prstGeom prst="rect">
            <a:avLst/>
          </a:prstGeom>
          <a:solidFill>
            <a:srgbClr val="eee0f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х расслаблять позволяет снять нервно-психическую напряженность, быстро восстановить силы. Как правило, добиться полноценного расслабления сразу всех мышц не удается, нужно сосредоточить внимание на наиболее напряженных частях тел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2" descr="C:\Users\Дмитрий\Desktop\15-2_400400.jpg"/>
          <p:cNvPicPr/>
          <p:nvPr/>
        </p:nvPicPr>
        <p:blipFill>
          <a:blip r:embed="rId2"/>
          <a:stretch/>
        </p:blipFill>
        <p:spPr>
          <a:xfrm>
            <a:off x="500040" y="3429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255080" cy="1011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285840" y="1356840"/>
            <a:ext cx="2928960" cy="5357880"/>
          </a:xfrm>
          <a:prstGeom prst="rect">
            <a:avLst/>
          </a:prstGeom>
          <a:solidFill>
            <a:srgbClr val="cf96b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е воздействие задействует сознательный механизм самовнушения, идет непосредственное воздействие на психофизиологические функции организма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14440" y="1356840"/>
            <a:ext cx="4484520" cy="2357640"/>
          </a:xfrm>
          <a:prstGeom prst="rect">
            <a:avLst/>
          </a:prstGeom>
          <a:solidFill>
            <a:srgbClr val="f1d7e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и самовнушений строятся в виде простых и кратких утверждений, с позитивной направленностью (без частицы «не»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2" descr="C:\Users\Дмитрий\Desktop\Психолог1.jpg"/>
          <p:cNvPicPr/>
          <p:nvPr/>
        </p:nvPicPr>
        <p:blipFill>
          <a:blip r:embed="rId2"/>
          <a:stretch/>
        </p:blipFill>
        <p:spPr>
          <a:xfrm>
            <a:off x="3214800" y="3786120"/>
            <a:ext cx="4771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182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C:\Users\Дмитрий\Desktop\e0109e7e92db6cee90170e238b24dc62.jpg"/>
          <p:cNvPicPr/>
          <p:nvPr/>
        </p:nvPicPr>
        <p:blipFill>
          <a:blip r:embed="rId2"/>
          <a:stretch/>
        </p:blipFill>
        <p:spPr>
          <a:xfrm>
            <a:off x="428760" y="1571760"/>
            <a:ext cx="7511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7255080" cy="731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14200" y="1071720"/>
            <a:ext cx="3764160" cy="557208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регулирующей функции психик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у участников процесса самопознания, с целью оптимизации отношения к себе и своей личност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созданию благоприятного психологического климата в коллективе и межличностных отношений с коллега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активизации личностных ресурсных состоян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диапазона творческих способностей участник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786200" y="1600200"/>
            <a:ext cx="29131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2" descr="C:\Users\Дмитрий\Desktop\depositphotos_145026291-stock-illustration-little-girl-anatomy-in-full.jpg"/>
          <p:cNvPicPr/>
          <p:nvPr/>
        </p:nvPicPr>
        <p:blipFill>
          <a:blip r:embed="rId2"/>
          <a:stretch/>
        </p:blipFill>
        <p:spPr>
          <a:xfrm>
            <a:off x="4214880" y="1571760"/>
            <a:ext cx="36511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1520" y="317520"/>
            <a:ext cx="7419960" cy="762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285560"/>
            <a:ext cx="3521160" cy="5357880"/>
          </a:xfrm>
          <a:prstGeom prst="rect">
            <a:avLst/>
          </a:prstGeom>
          <a:solidFill>
            <a:srgbClr val="f1d7e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ый стиль общения(одно из его отличий- называние друг друга на «ты», что психологически уравнивает членов группы и ведущего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по принципу «здесь и теперь» (говорить о том, что волнует участников в данный момент, и обсуждать то, что происходит в группе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ификация высказываний (отказ от безличных речевых форм, высказывание суждений в форме «Я считаю…», «Я думаю…»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енность в общении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непосредственных оценок человек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57400" y="1599840"/>
            <a:ext cx="4071960" cy="197172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ДЕНЦИАЛЬНОСТЬ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ящее на занятии не выносится за пределы группы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Дмитрий\Desktop\images (1).jpg"/>
          <p:cNvPicPr/>
          <p:nvPr/>
        </p:nvPicPr>
        <p:blipFill>
          <a:blip r:embed="rId2"/>
          <a:stretch/>
        </p:blipFill>
        <p:spPr>
          <a:xfrm>
            <a:off x="4214880" y="3643200"/>
            <a:ext cx="37465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7328160" cy="1182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571760"/>
            <a:ext cx="4257720" cy="235728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едагога отличается повышенной эмоциональной нагрузкой, которая, в совокупности с другими факторами, может привести к синдрому эмоционального выгорания.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857840" y="1714680"/>
            <a:ext cx="27144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C:\Users\Дмитрий\Desktop\deti.png"/>
          <p:cNvPicPr/>
          <p:nvPr/>
        </p:nvPicPr>
        <p:blipFill>
          <a:blip r:embed="rId2"/>
          <a:stretch/>
        </p:blipFill>
        <p:spPr>
          <a:xfrm>
            <a:off x="0" y="3929040"/>
            <a:ext cx="4530600" cy="27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Дмитрий\Desktop\file_15701082575336.jpg"/>
          <p:cNvPicPr/>
          <p:nvPr/>
        </p:nvPicPr>
        <p:blipFill>
          <a:blip r:embed="rId3"/>
          <a:stretch/>
        </p:blipFill>
        <p:spPr>
          <a:xfrm>
            <a:off x="4643280" y="1571760"/>
            <a:ext cx="3297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14200" y="1600200"/>
            <a:ext cx="3764160" cy="2471760"/>
          </a:xfrm>
          <a:prstGeom prst="rect">
            <a:avLst/>
          </a:prstGeom>
          <a:solidFill>
            <a:srgbClr val="e5c6d5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 окрашенные психологические состояния педагога снижают эффективность воспитания и обучения детей, приводят к блокировке умственной деятельности и ослаблению волевого потенциала ребенка, вследствие повышения невротизации и формировании различных форм эмоционального перенапряжени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77800" y="4000320"/>
            <a:ext cx="3521160" cy="2571480"/>
          </a:xfrm>
          <a:prstGeom prst="rect">
            <a:avLst/>
          </a:prstGeom>
          <a:solidFill>
            <a:srgbClr val="f1d7e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конфликтность во взаимоотношениях с коллегами, родителями воспитанник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ют возникновению и закреплению в характере личности и профессиональных качествах негативных чер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 влияют на здоровье самого воспитател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2" descr="C:\Users\Дмитрий\Desktop\228866.jpg"/>
          <p:cNvPicPr/>
          <p:nvPr/>
        </p:nvPicPr>
        <p:blipFill>
          <a:blip r:embed="rId2"/>
          <a:stretch/>
        </p:blipFill>
        <p:spPr>
          <a:xfrm>
            <a:off x="214200" y="4143240"/>
            <a:ext cx="3853080" cy="2519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Дмитрий\Desktop\images.jpg"/>
          <p:cNvPicPr/>
          <p:nvPr/>
        </p:nvPicPr>
        <p:blipFill>
          <a:blip r:embed="rId3"/>
          <a:stretch/>
        </p:blipFill>
        <p:spPr>
          <a:xfrm>
            <a:off x="4143240" y="1571760"/>
            <a:ext cx="35863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7255080" cy="8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428760" y="1143000"/>
          <a:ext cx="7358040" cy="5357880"/>
        </p:xfrm>
        <a:graphic>
          <a:graphicData uri="http://schemas.openxmlformats.org/drawingml/2006/table">
            <a:tbl>
              <a:tblPr/>
              <a:tblGrid>
                <a:gridCol w="7358040"/>
              </a:tblGrid>
              <a:tr h="535788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худшение отношений с коллегами и родственниками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растающий негативизм по отношению к другим (коллегам, детям….)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трата чувства юмора, постоянное чувство неудачи, вины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вышенная раздражительность (дома и на работе)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порное желание переменить род занятия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То и дело возникающая рассеянность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Нарушение сна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Обостренная восприимчивость к инфекционным заболеваниям.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Повышенная утомляемость, чувство усталости на протяжении рабочего дн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solidFill>
                      <a:srgbClr val="e3af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15920" y="317520"/>
            <a:ext cx="7918560" cy="8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642960" y="4786200"/>
            <a:ext cx="2214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143400" y="2643120"/>
            <a:ext cx="15555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Дмитрий\Desktop\ustalost-772x473.jpg"/>
          <p:cNvPicPr/>
          <p:nvPr/>
        </p:nvPicPr>
        <p:blipFill>
          <a:blip r:embed="rId2"/>
          <a:stretch/>
        </p:blipFill>
        <p:spPr>
          <a:xfrm>
            <a:off x="285840" y="1285920"/>
            <a:ext cx="501336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Дмитрий\Desktop\depositphotos_50644327-stock-illustration-businessman-low-energy-and-needs.jpg"/>
          <p:cNvPicPr/>
          <p:nvPr/>
        </p:nvPicPr>
        <p:blipFill>
          <a:blip r:embed="rId3"/>
          <a:stretch/>
        </p:blipFill>
        <p:spPr>
          <a:xfrm>
            <a:off x="3714840" y="2071800"/>
            <a:ext cx="4278240" cy="442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Дмитрий\Desktop\cWPq37LM-580.jpg"/>
          <p:cNvPicPr/>
          <p:nvPr/>
        </p:nvPicPr>
        <p:blipFill>
          <a:blip r:embed="rId4"/>
          <a:stretch/>
        </p:blipFill>
        <p:spPr>
          <a:xfrm>
            <a:off x="500040" y="467208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04920"/>
            <a:ext cx="7255080" cy="106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Users\Дмитрий\Desktop\3-33460_1_6.jpg"/>
          <p:cNvPicPr/>
          <p:nvPr/>
        </p:nvPicPr>
        <p:blipFill>
          <a:blip r:embed="rId2"/>
          <a:stretch/>
        </p:blipFill>
        <p:spPr>
          <a:xfrm>
            <a:off x="214200" y="1428840"/>
            <a:ext cx="7786800" cy="5191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14200" y="1356840"/>
            <a:ext cx="450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я уровень своей эмоциональной культуры, приобретая навыки саморегуляции и восстановления своего эмоционального состояния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68904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3" descr="content_koleso_emotsiy__econet_ru.jpg"/>
          <p:cNvPicPr/>
          <p:nvPr/>
        </p:nvPicPr>
        <p:blipFill>
          <a:blip r:embed="rId2"/>
          <a:stretch/>
        </p:blipFill>
        <p:spPr>
          <a:xfrm>
            <a:off x="928800" y="1071720"/>
            <a:ext cx="6072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1T01:19:37Z</dcterms:created>
  <dc:creator>Дмитрий</dc:creator>
  <dc:description/>
  <dc:language>en-US</dc:language>
  <cp:lastModifiedBy>Дмитрий</cp:lastModifiedBy>
  <dcterms:modified xsi:type="dcterms:W3CDTF">2019-11-17T15:34:21Z</dcterms:modified>
  <cp:revision>31</cp:revision>
  <dc:subject/>
  <dc:title>Слайд 1</dc:title>
</cp:coreProperties>
</file>